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CF200-09C4-4397-93F3-3FC60BAFC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45731-86DE-49BD-9F28-612B72AA73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B6D7E-CD4A-4EDB-9B9A-7A025882BC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375FC-2C57-4383-8C8F-6120F707F1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C43C9-BC28-4061-A48A-66209DE87D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17D0C-A8D6-4D04-8A31-B5E2E3777D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18BD7-A993-4B91-AF22-5CF8FA9529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E4598-450A-4BDD-A2A5-304FFC8D9D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5EC19-F665-4C35-AAFE-187D03613F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7DB49-A94F-4BF7-82BB-66FF91EF7D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31E32-DD6C-4147-A0AB-AAC4333ED7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95F39-DC93-464A-B3F9-31BC0D9AAB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D6C4A-88A8-4B83-8B1F-975CDE54F2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D4691-2EB5-4151-9A1B-1225994299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E9A-4C0A-4C73-98E4-FC3BED24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44A-0912-4368-B254-67058073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20C-F926-4A9F-8FB4-67A17A5A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08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08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B0B7-08D0-42C3-81C0-17107067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59AD6-98D7-4BAC-9D65-E86A056657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67986-2C24-43ED-9CC6-8D80141854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61CE2-7A28-4950-9531-BF60B65AE9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F523A-D081-49B4-A150-F5E7E5C65E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00673-9329-424D-9905-9CA9D9824A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229680"/>
            <a:ext cx="9056520" cy="64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D7882-6D27-4BA2-9739-B88EA3EC2A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AA279-21C3-4550-880E-805F54BA0E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8DE-28E4-45C6-9145-A1B65D33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F3DD9-D2F5-46CF-9CEE-B0C91F0528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A2542-0F99-4BE8-9398-FFDF4122A6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CE671-D5D0-49C1-A32A-C8051AB90D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16DBB-FDA5-4D46-AD01-AE06B9064E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508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508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FDC39-40D1-44F0-8075-5050E3DD65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2FF-FB32-436C-8F41-B8ACD570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611-5BB8-4906-810C-CA52DD41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8B3-D3D8-402D-8378-A44D4904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9680"/>
            <a:ext cx="9056520" cy="64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49F-FC3C-4B66-B7DC-06FD6345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A20-8881-41BF-938C-4A0A5B61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C92-DA1B-49B3-A782-A530A673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E83-285B-4B51-A801-8B1BEA5A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2C716-0109-42D9-9BB9-292BC1590A3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3280" y="6886440"/>
            <a:ext cx="23446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886440"/>
            <a:ext cx="31939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224840" y="6886080"/>
            <a:ext cx="23335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708E4-6E58-4C69-81DA-8C278B4183A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cologiavirtual.com.b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000080"/>
                </a:solidFill>
                <a:latin typeface="Arial"/>
              </a:rPr>
              <a:t>BIE578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280" y="1371600"/>
            <a:ext cx="907236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Unidad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2142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Reamostragem e Simul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3280" y="157320"/>
            <a:ext cx="907092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c00000"/>
                </a:solidFill>
                <a:latin typeface="Arial"/>
              </a:rPr>
              <a:t>sample()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Estrutura Bás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3440" y="2187720"/>
            <a:ext cx="9917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sample(x, size, replace = FALSE,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prob = NU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3280" y="157320"/>
            <a:ext cx="907092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c00000"/>
                </a:solidFill>
                <a:latin typeface="Arial"/>
              </a:rPr>
              <a:t>sample(); for(... in ...)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Estrutura Bás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3440" y="2187720"/>
            <a:ext cx="9917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nsim=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resulta&lt;-rep(NA, nsi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for(i in 1:nsi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sdados&lt;-sample(dad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psd &lt;- … (sdad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resulta &lt;- p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 de Man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orrelação entre matrizes de distâ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Permuta uma matriz e recalcula a correl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petir 2 muitas vez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Calcula a signficância de 1 a partir da distribuição de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 de Man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200" y="1395360"/>
            <a:ext cx="1007928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Intervalo de Confiança por Bootstr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alcular o parâmetro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 com reposição os da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calcular o parâmetro de interesse em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Repetir 3 muitas vezes (não precisa muito!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5. Encontrar os quantis de interesse em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45720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Simulação de Proc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Ecológ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11320" y="1920960"/>
            <a:ext cx="557856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Intervalo de Confiança por Bootstr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alcular o parâmetro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 com reposição os da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calcular o parâmetro de interesse em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Repetir 3 muitas vezes (não precisa muito!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5. Encontrar os quantis de interesse em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ffcc00"/>
                </a:solidFill>
                <a:latin typeface="Arial"/>
              </a:rPr>
              <a:t>Bibliografia Recomendad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4680" y="3965400"/>
            <a:ext cx="2316240" cy="3257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35760" y="1371600"/>
            <a:ext cx="3657600" cy="4937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921040" y="2011320"/>
            <a:ext cx="2657520" cy="36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08000" y="201600"/>
            <a:ext cx="90727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Arial"/>
              </a:rPr>
              <a:t>A lógica dos cassin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5400" y="361152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éculo XIX, quando o governo italiano estendeu ao restante daquele país a loteria napolitana, ele sentenciou: "é um imposto sobre a imbecilidade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8120" y="252360"/>
            <a:ext cx="1511280" cy="2460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84240" y="2855880"/>
            <a:ext cx="22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millo Ben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de de Cav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56320" y="139212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sto sobre a imbecilidad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3280" y="33660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mentação Analí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040" y="1595520"/>
            <a:ext cx="94489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Monte Carlo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simulação de uma distribuição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conhecida, ou mais geral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Reamostragem (Permutação)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utiliza os dados para gerar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distribuições nul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Bootstrap e Jackknif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estima intervalos de confiança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de 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um parâmetr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6800" y="248436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Conjunto de métodos onde os dados são aleatorizados ou rearranjados para simular situaçãos esperadas pela H</a:t>
            </a:r>
            <a:r>
              <a:rPr b="1" lang="en-GB" sz="3600" spc="-1" strike="noStrike" baseline="-25000">
                <a:solidFill>
                  <a:srgbClr val="008000"/>
                </a:solidFill>
                <a:latin typeface="Courier New"/>
              </a:rPr>
              <a:t>0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0" y="28440"/>
            <a:ext cx="29397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6800" y="248436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Conjunto de métodos onde os dados são aleatorizados ou rearranjados para simular situaçãos esperadas pela H</a:t>
            </a:r>
            <a:r>
              <a:rPr b="1" lang="en-GB" sz="3600" spc="-1" strike="noStrike" baseline="-25000">
                <a:solidFill>
                  <a:srgbClr val="008000"/>
                </a:solidFill>
                <a:latin typeface="Courier New"/>
              </a:rPr>
              <a:t>0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400" y="28440"/>
            <a:ext cx="29397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6800" y="190512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Não há o necessidade de assumir um tipo de distribuição de probabilidades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INTUITIVA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amostragem e Simul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36600" y="1905120"/>
            <a:ext cx="949176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dificuldade comput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resultado pode variar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domínio de inferência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rest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- demanda um cenário nulo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dequad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amostragem e Simul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44680" y="1722600"/>
            <a:ext cx="8915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mostras aleatórias e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indepen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 estatística descreve o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padrão de inter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i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o cenário nulo descreve a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usência do processo al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3280" y="0"/>
            <a:ext cx="85467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supo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1905120"/>
            <a:ext cx="5943600" cy="1020600"/>
          </a:xfrm>
          <a:prstGeom prst="line">
            <a:avLst/>
          </a:prstGeom>
          <a:ln w="547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28800" y="1917720"/>
            <a:ext cx="5851440" cy="828720"/>
          </a:xfrm>
          <a:prstGeom prst="line">
            <a:avLst/>
          </a:prstGeom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e de Hipótese por Reamostrag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uatro Passo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Definir a estatística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(reordenar) os dados para o cenário nul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Criar a distribuição de pesudo-valores (nul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Comparar o valor observado e calcular “p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4:23:45Z</dcterms:created>
  <dc:creator>alexandre </dc:creator>
  <dc:description/>
  <dc:language>en-US</dc:language>
  <cp:lastModifiedBy/>
  <cp:revision>0</cp:revision>
  <dc:subject/>
  <dc:title/>
</cp:coreProperties>
</file>