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5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E51C4-1115-4F79-AB3D-5DAB503952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E75C1-1F47-46EA-923B-F76C8E876F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5C447-DCCB-45DF-BC2A-A052658976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DA99B-CB56-4618-BB73-5D128D209D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FAD43-238C-45EE-A164-B3419C6204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E9431-7E14-444F-B6E5-88FD550769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FAE40-8DC7-4115-A69E-5A30268760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629B7-BF35-4CB8-B79D-5C920A6486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4E209-1FC1-4D19-A124-2975562546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9FEA1-CBE4-4B3D-938B-C41016CB45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5A492-5BE8-445D-B9DB-0107A3B9A8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25D9D-9CCE-48E0-8228-F54652E18B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5A17A-450C-42E7-932B-57B0FCD055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E0840-7952-46D7-90E9-450014FC12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28D9-4FFD-40CB-9A21-85BBBDCA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652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6440"/>
            <a:ext cx="905652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29FC-C349-42D1-AE02-8DEBE9B5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368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60C2-BA6F-4AC3-AB2D-5A583040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080" y="176832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176832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644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080" y="436644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436644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DE9F-FFF1-4FB5-97B8-69EC7308B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27DE0-982A-40A9-B2FA-0B5A3D86B1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5652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1B93B-6041-4106-8CCA-6F4223788C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652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1FECF-996D-455F-81AC-D36F6129B4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9728B-712C-4449-91C7-F3D2A40BD4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65811-AD54-4D91-AA35-B87EB9050E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229680"/>
            <a:ext cx="9056520" cy="64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CCD07-2525-47D7-AAA8-7860134FBE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17C43-8B31-46AA-BE23-BB539D3C65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5652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67F2-0A47-42D5-9574-8DEE236F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368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A808A-F681-4798-9BA9-7853CF3F95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905652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FAFEB-FF9E-4111-9C96-8B9DB92804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652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66440"/>
            <a:ext cx="905652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CD37A-EF97-40C7-9CE9-F727C66B6C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368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65FF9-D9AF-4FBE-9112-0D6F5B530D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5080" y="176832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176832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6644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5080" y="436644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436644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4299D-1FDA-4D43-86EB-522CA1968D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652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6246-A97F-4E96-AF7D-8DCABB8D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3833-32FD-42CE-A553-DAC3C8C9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7671-C12E-44A9-8101-937D7037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9680"/>
            <a:ext cx="9056520" cy="64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E2B9-EA5F-43E8-A08D-4F9EB473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0893-521D-41A3-B5DF-D4A6B305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368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6564-9EF5-401F-807E-0A3739A5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905652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0FC9-A8DE-48B3-A93E-8C0AD8B3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60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29EE9-7706-4BF9-9FAE-902D429AD75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5652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3280" y="6886440"/>
            <a:ext cx="23446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48080" y="6886440"/>
            <a:ext cx="31939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7224840" y="6886080"/>
            <a:ext cx="23335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E73EF-40F0-429A-85EA-4D2CB45584DB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cologiavirtual.com.br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0328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000080"/>
                </a:solidFill>
                <a:latin typeface="Arial"/>
              </a:rPr>
              <a:t>BIE578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3280" y="1371600"/>
            <a:ext cx="907236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msgothic"/>
              </a:rPr>
              <a:t>Unidad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msgothic"/>
              </a:rPr>
              <a:t>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2142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msgothic"/>
              </a:rPr>
              <a:t>Reamostragem e Simul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03280" y="157320"/>
            <a:ext cx="9070920" cy="18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c00000"/>
                </a:solidFill>
                <a:latin typeface="Arial"/>
              </a:rPr>
              <a:t>sample()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Estrutura Básica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3440" y="2187720"/>
            <a:ext cx="991728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19280"/>
                <a:tab algn="l" pos="1442880"/>
                <a:tab algn="l" pos="2166840"/>
                <a:tab algn="l" pos="2890800"/>
                <a:tab algn="l" pos="3614760"/>
                <a:tab algn="l" pos="4343400"/>
                <a:tab algn="l" pos="5062680"/>
                <a:tab algn="l" pos="5786280"/>
                <a:tab algn="l" pos="6510240"/>
                <a:tab algn="l" pos="723420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sample(x, size, replace = FALSE,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prob = NUL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03280" y="157320"/>
            <a:ext cx="9070920" cy="18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c00000"/>
                </a:solidFill>
                <a:latin typeface="Arial"/>
              </a:rPr>
              <a:t>sample(); for(... in ...)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Estrutura Básica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3440" y="2187720"/>
            <a:ext cx="991728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nsim=1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resulta&lt;-rep(NA, nsi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for(i in 1:nsi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{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sdados&lt;-sample(dado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psd &lt;- … (sdado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resulta &lt;- ps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4360" y="263520"/>
            <a:ext cx="9072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Test de Man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1874880"/>
            <a:ext cx="9610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1. Correlação entre matrizes de distâ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2. Permuta uma matriz e recalcula a correl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3. Repetir 2 muitas vez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4. Calcula a signficância de 1 a partir da distribuição de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4360" y="263520"/>
            <a:ext cx="9072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Test de Man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6200" y="1395360"/>
            <a:ext cx="10079280" cy="48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263520"/>
            <a:ext cx="9072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Intervalo de Confiança por Bootstr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874880"/>
            <a:ext cx="9610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1. Calcular o parâmetro de intere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2. Reamostrar com reposição os dad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3. Recalcular o parâmetro de interesse em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4. Repetir 3 muitas vezes (não precisa muito!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5. Encontrar os quantis de interesse em 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4360" y="457200"/>
            <a:ext cx="9072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Simulação de Proces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Ecológ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11320" y="1920960"/>
            <a:ext cx="5578560" cy="48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4360" y="263520"/>
            <a:ext cx="9072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Intervalo de Confiança por Bootstr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874880"/>
            <a:ext cx="9610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1. Calcular o parâmetro de intere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2. Reamostrar com reposição os dad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3. Recalcular o parâmetro de interesse em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4. Repetir 3 muitas vezes (não precisa muito!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5. Encontrar os quantis de interesse em 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2920" y="2998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900" spc="-1" strike="noStrike">
                <a:solidFill>
                  <a:srgbClr val="ffcc00"/>
                </a:solidFill>
                <a:latin typeface="Arial"/>
              </a:rPr>
              <a:t>Bibliografia Recomendad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74680" y="3965400"/>
            <a:ext cx="2316240" cy="3257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035760" y="1371600"/>
            <a:ext cx="3657600" cy="4937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921040" y="2011320"/>
            <a:ext cx="2657520" cy="36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08000" y="201600"/>
            <a:ext cx="907272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000"/>
                </a:solidFill>
                <a:latin typeface="Arial"/>
              </a:rPr>
              <a:t>A lógica dos cassino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5400" y="3611520"/>
            <a:ext cx="68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éculo XIX, quando o governo italiano estendeu ao restante daquele país a loteria napolitana, ele sentenciou: "é um imposto sobre a imbecilidade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8120" y="252360"/>
            <a:ext cx="1511280" cy="2460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-84240" y="2855880"/>
            <a:ext cx="223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millo Ben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de de Cav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56320" y="1392120"/>
            <a:ext cx="57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sto sobre a imbecilidade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03280" y="336600"/>
            <a:ext cx="9072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mentação Analí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2040" y="1595520"/>
            <a:ext cx="944892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ourier New"/>
              </a:rPr>
              <a:t>Monte Carlo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simulação de uma distribuição 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conhecida, ou mais geral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ourier New"/>
              </a:rPr>
              <a:t>Reamostragem (Permutação)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utiliza os dados para gerar 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distribuições nula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ourier New"/>
              </a:rPr>
              <a:t>Bootstrap e Jackknife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estima intervalos de confiança 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de  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um parâmetr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66800" y="2484360"/>
            <a:ext cx="823608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Conjunto de métodos onde os dados são aleatorizados ou rearranjados para simular situaçãos esperadas pela H</a:t>
            </a:r>
            <a:r>
              <a:rPr b="1" lang="en-GB" sz="3600" spc="-1" strike="noStrike" baseline="-25000">
                <a:solidFill>
                  <a:srgbClr val="008000"/>
                </a:solidFill>
                <a:latin typeface="Courier New"/>
              </a:rPr>
              <a:t>0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263520"/>
            <a:ext cx="85471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onte Car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400" y="28440"/>
            <a:ext cx="293976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6800" y="2484360"/>
            <a:ext cx="823608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Conjunto de métodos onde os dados são aleatorizados ou rearranjados para simular situaçãos esperadas pela H</a:t>
            </a:r>
            <a:r>
              <a:rPr b="1" lang="en-GB" sz="3600" spc="-1" strike="noStrike" baseline="-25000">
                <a:solidFill>
                  <a:srgbClr val="008000"/>
                </a:solidFill>
                <a:latin typeface="Courier New"/>
              </a:rPr>
              <a:t>0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263520"/>
            <a:ext cx="85471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onte Car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1400" y="28440"/>
            <a:ext cx="293976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6800" y="1905120"/>
            <a:ext cx="823608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Não há o necessidade de assumir um tipo de distribuição de probabilidades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INTUITIVA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263520"/>
            <a:ext cx="85471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amostragem e Simulaçõ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36600" y="1905120"/>
            <a:ext cx="949176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89000"/>
              </a:lnSpc>
              <a:buClr>
                <a:srgbClr val="000000"/>
              </a:buClr>
              <a:buFont typeface="Courier New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dificuldade comput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buClr>
                <a:srgbClr val="000000"/>
              </a:buClr>
              <a:buFont typeface="Courier New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resultado pode variar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buClr>
                <a:srgbClr val="000000"/>
              </a:buClr>
              <a:buFont typeface="Courier New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domínio de inferência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restri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- demanda um cenário nulo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adequad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263520"/>
            <a:ext cx="85471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amostragem e Simulaçõ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44680" y="1722600"/>
            <a:ext cx="8915400" cy="46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89000"/>
              </a:lnSpc>
              <a:buClr>
                <a:srgbClr val="000000"/>
              </a:buClr>
              <a:buFont typeface="Courier New"/>
              <a:buChar char="-"/>
              <a:tabLst>
                <a:tab algn="l" pos="644400"/>
                <a:tab algn="l" pos="1300320"/>
                <a:tab algn="l" pos="1957320"/>
                <a:tab algn="l" pos="2614680"/>
                <a:tab algn="l" pos="3270240"/>
                <a:tab algn="l" pos="3927600"/>
                <a:tab algn="l" pos="4583160"/>
                <a:tab algn="l" pos="5240160"/>
                <a:tab algn="l" pos="5897520"/>
                <a:tab algn="l" pos="6551640"/>
                <a:tab algn="l" pos="7218360"/>
                <a:tab algn="l" pos="7331040"/>
                <a:tab algn="l" pos="7738920"/>
                <a:tab algn="l" pos="8147160"/>
                <a:tab algn="l" pos="8555040"/>
                <a:tab algn="l" pos="8962920"/>
                <a:tab algn="l" pos="9372600"/>
                <a:tab algn="l" pos="9779040"/>
                <a:tab algn="l" pos="10190160"/>
                <a:tab algn="l" pos="10594800"/>
                <a:tab algn="l" pos="10779120"/>
                <a:tab algn="l" pos="1078056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amostras aleatórias e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independ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644400"/>
                <a:tab algn="l" pos="1300320"/>
                <a:tab algn="l" pos="1957320"/>
                <a:tab algn="l" pos="2614680"/>
                <a:tab algn="l" pos="3270240"/>
                <a:tab algn="l" pos="3927600"/>
                <a:tab algn="l" pos="4583160"/>
                <a:tab algn="l" pos="5240160"/>
                <a:tab algn="l" pos="5897520"/>
                <a:tab algn="l" pos="6551640"/>
                <a:tab algn="l" pos="7218360"/>
                <a:tab algn="l" pos="7331040"/>
                <a:tab algn="l" pos="7738920"/>
                <a:tab algn="l" pos="8147160"/>
                <a:tab algn="l" pos="8555040"/>
                <a:tab algn="l" pos="8962920"/>
                <a:tab algn="l" pos="9372600"/>
                <a:tab algn="l" pos="9779040"/>
                <a:tab algn="l" pos="10190160"/>
                <a:tab algn="l" pos="10594800"/>
                <a:tab algn="l" pos="10779120"/>
                <a:tab algn="l" pos="1078056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9000"/>
              </a:lnSpc>
              <a:buClr>
                <a:srgbClr val="000000"/>
              </a:buClr>
              <a:buFont typeface="Courier New"/>
              <a:buChar char="-"/>
              <a:tabLst>
                <a:tab algn="l" pos="644400"/>
                <a:tab algn="l" pos="1300320"/>
                <a:tab algn="l" pos="1957320"/>
                <a:tab algn="l" pos="2614680"/>
                <a:tab algn="l" pos="3270240"/>
                <a:tab algn="l" pos="3927600"/>
                <a:tab algn="l" pos="4583160"/>
                <a:tab algn="l" pos="5240160"/>
                <a:tab algn="l" pos="5897520"/>
                <a:tab algn="l" pos="6551640"/>
                <a:tab algn="l" pos="7218360"/>
                <a:tab algn="l" pos="7331040"/>
                <a:tab algn="l" pos="7738920"/>
                <a:tab algn="l" pos="8147160"/>
                <a:tab algn="l" pos="8555040"/>
                <a:tab algn="l" pos="8962920"/>
                <a:tab algn="l" pos="9372600"/>
                <a:tab algn="l" pos="9779040"/>
                <a:tab algn="l" pos="10190160"/>
                <a:tab algn="l" pos="10594800"/>
                <a:tab algn="l" pos="10779120"/>
                <a:tab algn="l" pos="1078056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a estatística descreve o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padrão de interes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644400"/>
                <a:tab algn="l" pos="1300320"/>
                <a:tab algn="l" pos="1957320"/>
                <a:tab algn="l" pos="2614680"/>
                <a:tab algn="l" pos="3270240"/>
                <a:tab algn="l" pos="3927600"/>
                <a:tab algn="l" pos="4583160"/>
                <a:tab algn="l" pos="5240160"/>
                <a:tab algn="l" pos="5897520"/>
                <a:tab algn="l" pos="6551640"/>
                <a:tab algn="l" pos="7218360"/>
                <a:tab algn="l" pos="7331040"/>
                <a:tab algn="l" pos="7738920"/>
                <a:tab algn="l" pos="8147160"/>
                <a:tab algn="l" pos="8555040"/>
                <a:tab algn="l" pos="8962920"/>
                <a:tab algn="l" pos="9372600"/>
                <a:tab algn="l" pos="9779040"/>
                <a:tab algn="l" pos="10190160"/>
                <a:tab algn="l" pos="10594800"/>
                <a:tab algn="l" pos="10779120"/>
                <a:tab algn="l" pos="1078056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9000"/>
              </a:lnSpc>
              <a:buClr>
                <a:srgbClr val="000000"/>
              </a:buClr>
              <a:buFont typeface="Courier New"/>
              <a:buChar char="-"/>
              <a:tabLst>
                <a:tab algn="l" pos="644400"/>
                <a:tab algn="l" pos="1300320"/>
                <a:tab algn="l" pos="1957320"/>
                <a:tab algn="l" pos="2614680"/>
                <a:tab algn="l" pos="3270240"/>
                <a:tab algn="l" pos="3927600"/>
                <a:tab algn="l" pos="4583160"/>
                <a:tab algn="l" pos="5240160"/>
                <a:tab algn="l" pos="5897520"/>
                <a:tab algn="l" pos="6551640"/>
                <a:tab algn="l" pos="7218360"/>
                <a:tab algn="l" pos="7331040"/>
                <a:tab algn="l" pos="7738920"/>
                <a:tab algn="l" pos="8147160"/>
                <a:tab algn="l" pos="8555040"/>
                <a:tab algn="l" pos="8962920"/>
                <a:tab algn="l" pos="9372600"/>
                <a:tab algn="l" pos="9779040"/>
                <a:tab algn="l" pos="10190160"/>
                <a:tab algn="l" pos="10594800"/>
                <a:tab algn="l" pos="10779120"/>
                <a:tab algn="l" pos="10780560"/>
                <a:tab algn="l" pos="10782360"/>
              </a:tabLst>
            </a:pPr>
            <a:r>
              <a:rPr b="1" i="1" lang="en-GB" sz="3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o cenário nulo descreve a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ausência do processo al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644400"/>
                <a:tab algn="l" pos="1300320"/>
                <a:tab algn="l" pos="1957320"/>
                <a:tab algn="l" pos="2614680"/>
                <a:tab algn="l" pos="3270240"/>
                <a:tab algn="l" pos="3927600"/>
                <a:tab algn="l" pos="4583160"/>
                <a:tab algn="l" pos="5240160"/>
                <a:tab algn="l" pos="5897520"/>
                <a:tab algn="l" pos="6551640"/>
                <a:tab algn="l" pos="7218360"/>
                <a:tab algn="l" pos="7331040"/>
                <a:tab algn="l" pos="7738920"/>
                <a:tab algn="l" pos="8147160"/>
                <a:tab algn="l" pos="8555040"/>
                <a:tab algn="l" pos="8962920"/>
                <a:tab algn="l" pos="9372600"/>
                <a:tab algn="l" pos="9779040"/>
                <a:tab algn="l" pos="10190160"/>
                <a:tab algn="l" pos="10594800"/>
                <a:tab algn="l" pos="10779120"/>
                <a:tab algn="l" pos="1078056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3280" y="0"/>
            <a:ext cx="85467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ssupos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1905120"/>
            <a:ext cx="5943600" cy="1020600"/>
          </a:xfrm>
          <a:prstGeom prst="line">
            <a:avLst/>
          </a:prstGeom>
          <a:ln w="547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828800" y="1917720"/>
            <a:ext cx="5851440" cy="828720"/>
          </a:xfrm>
          <a:prstGeom prst="line">
            <a:avLst/>
          </a:prstGeom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4360" y="263520"/>
            <a:ext cx="9072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Teste de Hipótese por Reamostrag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Quatro Passo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874880"/>
            <a:ext cx="9610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1. Definir a estatística de intere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2. Reamostrar(reordenar) os dados para o cenário nul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3. Criar a distribuição de pesudo-valores (nulo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4. Comparar o valor observado e calcular “p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14:23:45Z</dcterms:created>
  <dc:creator>alexandre </dc:creator>
  <dc:description/>
  <dc:language>en-US</dc:language>
  <cp:lastModifiedBy/>
  <cp:revision>0</cp:revision>
  <dc:subject/>
  <dc:title/>
</cp:coreProperties>
</file>